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8.jpeg" ContentType="image/jpeg"/>
  <Override PartName="/ppt/media/image5.jpeg" ContentType="image/jpeg"/>
  <Override PartName="/ppt/media/image35.png" ContentType="image/png"/>
  <Override PartName="/ppt/media/image9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6AA9D-E5ED-4CDA-87E8-96A039645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1695E-5A02-40DD-AF0C-7966356F0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0877F-ECE3-49CA-B1C6-E79E7B560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6EA37-B023-496E-A914-1D5D893BC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10A02-0F0A-4BE4-A2E1-42192F33F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284DA-3722-4D42-94D7-03C566DB6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61BAB-4E72-4C85-9F55-FC27FBE3C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B12EF-8827-4AFA-8139-FBA91BB16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AA79D-00C3-4154-9086-6A761343B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20C0A-5D4D-4627-ACFE-283D7620E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70520-536E-4A9B-827A-543941DB5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C471E-53CA-4F81-A7BC-B8BA292D0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3DEA8-843E-4E87-ACF9-3CA98F5F0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083B9-EB7D-48AB-B424-5711B43E8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66D-09A7-4BE4-A035-7BB524EB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B29-DCDC-4CE9-8E9B-F445FEEC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D36-C6C4-4FAB-9200-5EA58D84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027-B9CE-49F1-B54A-141312FC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DD6-8773-4330-B08F-192201A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22A-1BF4-4206-AFBB-EE60988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1AEB8-2C31-438A-84EF-987028A05A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361B6-C585-44FA-8BEB-88F4027ECA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208C-B3FD-4EDD-BD51-B749006A8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6E1-E9A2-40A8-8F0E-B677486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DD8F1-0579-4841-BEAE-8F8EB407F6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F5F00-5165-4BC7-816F-6364BC8CB7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E5BF8-AC78-46B1-9AC5-E0B16D1FA5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B02B2-1D83-40BB-87BD-0CD248B3B1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14299-AD9A-4D26-A8DD-CB84F53C13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CD86B-9A86-444A-B5F6-EB7AFB2194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BA94B-164D-4ED2-8043-5A1539829F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86F77-CB70-426F-BF46-F7D25201C1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E14E5-9DCA-4776-B3C1-7E5358916D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C4A7C-EC8A-478A-8FCE-F6CE5E054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B6E-8E90-403A-AEAB-8C2FDE8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2B6C9-B051-4768-B052-C846424BD2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399EE-23FD-4D4D-9CC9-786FB383D7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23727-4D2D-47A5-8278-C7A54DC0B3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F2075-5282-42BF-A75F-9AB46CD1E9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0ABDD-8395-4C71-BE2E-D669D8B3B8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AF5C8-0940-4092-8A3A-E8549E7F10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25878-D80F-40E1-9AA5-BFD35AFBFD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03079-69A9-4BC2-B6C6-1D0A794320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2A253-CC3B-4C0F-8C30-5885399EE8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3ED86-64A7-4ECC-8900-50499982C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6EF-D967-4847-B338-1BAD8F3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1A5B9-7795-48D1-8F20-7CC60EB31C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E980-F22F-422C-9B6C-3E392DD9F3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E21F-CCFC-4AE2-8BE1-5DA452FB36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B10C-4288-4291-B6F7-8BD5F318F2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D289-D994-445E-94BC-E22646EE72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673-27A8-4774-B651-44D11383AD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9A14-915F-4BDD-9749-2AA444218E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D3F4-EA38-4B33-A7DC-A084B61E9D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8674-0E97-45C4-BF1F-A157DED700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30D7-039A-415D-81C0-72D3B5769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EDD-4DBF-4899-BA39-B12F61C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D0F-679D-48D4-9ED3-D7B3F04ADA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009-EFA4-4093-B34E-C85A8031F0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ABC-0D52-4027-94FE-92216F2777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C5D53-090C-4336-8C60-2BCA2B1C15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10020-2BF6-48BD-929C-F9E2041CF7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8856A-233F-445A-B5D2-79A38FB200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5B6BC-DF99-44DB-956B-D68CFD1ED7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8EF2C-7D68-4217-998B-7B680B760E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4B1F2-3448-46AF-8DEE-E4E238F777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88B6D-44F6-448C-A201-8EC1092D5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F80-46F5-4856-B665-8CD6DADB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0A3E9-CFA1-44F6-9A5B-98EDA3679F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2F8C6-1685-4E5F-BFB7-711BC998B0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F0756-F881-42DB-8891-230C21B162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AC620-968D-40A6-BF4A-4A94468203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29AF3-D574-4DEA-A92F-1F8F5FF652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40C-5536-4830-8F5C-23DBF201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4AA44-185E-48F2-8E3E-2F2904335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38FF1-A003-431D-B364-FCDBABE71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968400" cy="271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bg-3拷貝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ATEN_Logo_biu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058E1-5824-4B47-8D62-59D7DB81D57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ATEN_Logo_biue_cs3.png"/>
          <p:cNvPicPr/>
          <p:nvPr/>
        </p:nvPicPr>
        <p:blipFill>
          <a:blip r:embed="rId2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5"/>
          <p:cNvSpPr/>
          <p:nvPr/>
        </p:nvSpPr>
        <p:spPr>
          <a:xfrm>
            <a:off x="322200" y="666720"/>
            <a:ext cx="8531280" cy="0"/>
          </a:xfrm>
          <a:prstGeom prst="line">
            <a:avLst/>
          </a:prstGeom>
          <a:ln w="10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onfidential_blue_ss.png"/>
          <p:cNvPicPr/>
          <p:nvPr/>
        </p:nvPicPr>
        <p:blipFill>
          <a:blip r:embed="rId3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74CEA-F730-4305-9D84-5C856CFE48C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0" descr="bg-1拷貝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ATEN_Logo_biu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19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D0466-61BD-4E9B-A994-546492F636E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bg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7"/>
          <p:cNvSpPr/>
          <p:nvPr/>
        </p:nvSpPr>
        <p:spPr>
          <a:xfrm flipH="1">
            <a:off x="1447920" y="230040"/>
            <a:ext cx="1440" cy="360360"/>
          </a:xfrm>
          <a:prstGeom prst="line">
            <a:avLst/>
          </a:prstGeom>
          <a:ln w="9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ATEN_Logo_white_cs3.png"/>
          <p:cNvPicPr/>
          <p:nvPr/>
        </p:nvPicPr>
        <p:blipFill>
          <a:blip r:embed="rId3"/>
          <a:stretch/>
        </p:blipFill>
        <p:spPr>
          <a:xfrm>
            <a:off x="398520" y="285840"/>
            <a:ext cx="853920" cy="23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onfidential_blue_ss.png"/>
          <p:cNvPicPr/>
          <p:nvPr/>
        </p:nvPicPr>
        <p:blipFill>
          <a:blip r:embed="rId4"/>
          <a:stretch/>
        </p:blipFill>
        <p:spPr>
          <a:xfrm>
            <a:off x="8244000" y="109440"/>
            <a:ext cx="560160" cy="468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6795720" y="486864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AAF66-8283-49C3-A204-552A82FF722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0221_back_bg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"/>
          <p:cNvPicPr/>
          <p:nvPr/>
        </p:nvPicPr>
        <p:blipFill>
          <a:blip r:embed="rId3"/>
          <a:stretch/>
        </p:blipFill>
        <p:spPr>
          <a:xfrm>
            <a:off x="270000" y="4800600"/>
            <a:ext cx="720720" cy="203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警語拷貝.png"/>
          <p:cNvPicPr/>
          <p:nvPr/>
        </p:nvPicPr>
        <p:blipFill>
          <a:blip r:embed="rId4"/>
          <a:stretch/>
        </p:blipFill>
        <p:spPr>
          <a:xfrm>
            <a:off x="1076400" y="4857840"/>
            <a:ext cx="7839000" cy="195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simply.png"/>
          <p:cNvPicPr/>
          <p:nvPr/>
        </p:nvPicPr>
        <p:blipFill>
          <a:blip r:embed="rId5"/>
          <a:stretch/>
        </p:blipFill>
        <p:spPr>
          <a:xfrm>
            <a:off x="2838600" y="2038320"/>
            <a:ext cx="3638520" cy="4939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na@aten.co.kr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ubtitle 2"/>
          <p:cNvSpPr/>
          <p:nvPr/>
        </p:nvSpPr>
        <p:spPr>
          <a:xfrm>
            <a:off x="369720" y="4500720"/>
            <a:ext cx="2630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軟正黑體"/>
              </a:rPr>
              <a:t>Bowei La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軟正黑體"/>
              </a:rPr>
              <a:t>Assistant Vice President, A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직사각형 6"/>
          <p:cNvSpPr/>
          <p:nvPr/>
        </p:nvSpPr>
        <p:spPr>
          <a:xfrm>
            <a:off x="857160" y="714240"/>
            <a:ext cx="7715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 1</a:t>
            </a:r>
            <a:r>
              <a:rPr b="1" lang="ko-KR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기 교육</a:t>
            </a:r>
            <a:r>
              <a:rPr b="1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br>
              <a:rPr sz="1800"/>
            </a:br>
            <a:r>
              <a:rPr b="1" i="1" lang="en-US" sz="6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Troubleshooting - 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標題 1"/>
          <p:cNvSpPr/>
          <p:nvPr/>
        </p:nvSpPr>
        <p:spPr>
          <a:xfrm>
            <a:off x="1330200" y="361476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TEN Korea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illy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illy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"/>
              </a:rPr>
              <a:t>aten.co.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3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상 교류 전기의 위상차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21" name="Picture 2" descr="http://cafefiles.naver.net/20150225_287/swc5531_1424841323599WI5MH_JPEG/3%BB%F3.JPG"/>
          <p:cNvPicPr/>
          <p:nvPr/>
        </p:nvPicPr>
        <p:blipFill>
          <a:blip r:embed="rId1"/>
          <a:stretch/>
        </p:blipFill>
        <p:spPr>
          <a:xfrm>
            <a:off x="3500280" y="1571760"/>
            <a:ext cx="4930920" cy="2500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714240" y="1176480"/>
            <a:ext cx="2343240" cy="3143160"/>
          </a:xfrm>
          <a:prstGeom prst="rect">
            <a:avLst/>
          </a:prstGeom>
          <a:ln w="0">
            <a:noFill/>
          </a:ln>
        </p:spPr>
      </p:pic>
      <p:sp>
        <p:nvSpPr>
          <p:cNvPr id="423" name="U자형 화살표 4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6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접지된 콘센트를 사용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357120" y="105552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형적인 접지 콘센트는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eutral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H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Grounding”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</a:t>
            </a:r>
            <a:r>
              <a:rPr b="0" lang="ko-KR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세가지 전기적 연결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outlet_au_01"/>
          <p:cNvPicPr/>
          <p:nvPr/>
        </p:nvPicPr>
        <p:blipFill>
          <a:blip r:embed="rId1"/>
          <a:stretch/>
        </p:blipFill>
        <p:spPr>
          <a:xfrm>
            <a:off x="6062760" y="907920"/>
            <a:ext cx="2438280" cy="89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outlet_Eng_01"/>
          <p:cNvPicPr/>
          <p:nvPr/>
        </p:nvPicPr>
        <p:blipFill>
          <a:blip r:embed="rId2"/>
          <a:stretch/>
        </p:blipFill>
        <p:spPr>
          <a:xfrm>
            <a:off x="6062760" y="1822320"/>
            <a:ext cx="2438280" cy="1081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utlet_Franch_01"/>
          <p:cNvPicPr/>
          <p:nvPr/>
        </p:nvPicPr>
        <p:blipFill>
          <a:blip r:embed="rId3"/>
          <a:stretch/>
        </p:blipFill>
        <p:spPr>
          <a:xfrm>
            <a:off x="6062760" y="2935440"/>
            <a:ext cx="2438280" cy="863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outlet_germany_01"/>
          <p:cNvPicPr/>
          <p:nvPr/>
        </p:nvPicPr>
        <p:blipFill>
          <a:blip r:embed="rId4"/>
          <a:stretch/>
        </p:blipFill>
        <p:spPr>
          <a:xfrm>
            <a:off x="6062760" y="3822840"/>
            <a:ext cx="2438280" cy="1035000"/>
          </a:xfrm>
          <a:prstGeom prst="rect">
            <a:avLst/>
          </a:prstGeom>
          <a:ln w="0">
            <a:noFill/>
          </a:ln>
        </p:spPr>
      </p:pic>
      <p:sp>
        <p:nvSpPr>
          <p:cNvPr id="430" name="Oval 9"/>
          <p:cNvSpPr/>
          <p:nvPr/>
        </p:nvSpPr>
        <p:spPr>
          <a:xfrm>
            <a:off x="6595920" y="1392120"/>
            <a:ext cx="304920" cy="2286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6443640" y="2021040"/>
            <a:ext cx="380880" cy="28548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6595920" y="3106800"/>
            <a:ext cx="304920" cy="2286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6562800" y="4021200"/>
            <a:ext cx="304560" cy="2286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6595920" y="4478400"/>
            <a:ext cx="304920" cy="2286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5300640" y="1506600"/>
            <a:ext cx="12952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5300640" y="2192400"/>
            <a:ext cx="10666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5300640" y="3220920"/>
            <a:ext cx="12193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5300640" y="4135320"/>
            <a:ext cx="1143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5300640" y="4649760"/>
            <a:ext cx="12193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5300640" y="1506600"/>
            <a:ext cx="0" cy="15429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5300640" y="3049560"/>
            <a:ext cx="0" cy="16002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366920" y="2117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2795760" y="207180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t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L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4538520" y="3449520"/>
            <a:ext cx="1411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G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5"/>
          <a:stretch/>
        </p:blipFill>
        <p:spPr>
          <a:xfrm>
            <a:off x="1866960" y="2703600"/>
            <a:ext cx="1500120" cy="1093680"/>
          </a:xfrm>
          <a:prstGeom prst="rect">
            <a:avLst/>
          </a:prstGeom>
          <a:ln w="0">
            <a:noFill/>
          </a:ln>
        </p:spPr>
      </p:pic>
      <p:sp>
        <p:nvSpPr>
          <p:cNvPr id="446" name="Line 22"/>
          <p:cNvSpPr/>
          <p:nvPr/>
        </p:nvSpPr>
        <p:spPr>
          <a:xfrm flipH="1">
            <a:off x="2866680" y="3591000"/>
            <a:ext cx="1749240" cy="33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>
            <a:off x="2438280" y="3452760"/>
            <a:ext cx="381240" cy="28584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7"/>
          <p:cNvSpPr/>
          <p:nvPr/>
        </p:nvSpPr>
        <p:spPr>
          <a:xfrm flipH="1">
            <a:off x="2955600" y="2489040"/>
            <a:ext cx="268200" cy="776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6"/>
          <p:cNvSpPr/>
          <p:nvPr/>
        </p:nvSpPr>
        <p:spPr>
          <a:xfrm>
            <a:off x="1946160" y="2508120"/>
            <a:ext cx="500040" cy="749520"/>
          </a:xfrm>
          <a:prstGeom prst="line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U자형 화살표 35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올바른 설치 예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6357960" y="2571840"/>
            <a:ext cx="2000160" cy="1108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2"/>
          <a:stretch/>
        </p:blipFill>
        <p:spPr>
          <a:xfrm>
            <a:off x="857160" y="1428840"/>
            <a:ext cx="5500800" cy="31971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3"/>
          <a:stretch/>
        </p:blipFill>
        <p:spPr>
          <a:xfrm>
            <a:off x="571680" y="857160"/>
            <a:ext cx="5786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6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불량 접지 예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56" name="Picture 7" descr=""/>
          <p:cNvPicPr/>
          <p:nvPr/>
        </p:nvPicPr>
        <p:blipFill>
          <a:blip r:embed="rId1"/>
          <a:stretch/>
        </p:blipFill>
        <p:spPr>
          <a:xfrm>
            <a:off x="1104840" y="928800"/>
            <a:ext cx="7467840" cy="39639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157560" y="982800"/>
            <a:ext cx="5184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0200" indent="-16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微軟正黑體"/>
              </a:rPr>
              <a:t>KM0932 and KA7170 are broken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414360" y="1440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C220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전원 접지 전압 측정 방법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642960" y="1322280"/>
          <a:ext cx="7715160" cy="2894040"/>
        </p:xfrm>
        <a:graphic>
          <a:graphicData uri="http://schemas.openxmlformats.org/drawingml/2006/table">
            <a:tbl>
              <a:tblPr/>
              <a:tblGrid>
                <a:gridCol w="4154400"/>
                <a:gridCol w="3560760"/>
              </a:tblGrid>
              <a:tr h="289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트기 스위치를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C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압으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트기의 한 쪽 리드봉을 접지에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나머지 한쪽을 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utral”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멍에 연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측정한 접지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5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전압 값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1V </a:t>
                      </a:r>
                      <a:r>
                        <a:rPr b="1" lang="ko-KR" sz="15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미만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o-KR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PS: </a:t>
                      </a:r>
                      <a:r>
                        <a:rPr b="0" lang="ko-KR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측정한 전압이 </a:t>
                      </a:r>
                      <a:r>
                        <a:rPr b="0" lang="en-US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AC220V</a:t>
                      </a:r>
                      <a:r>
                        <a:rPr b="0" lang="ko-KR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에 이른다면</a:t>
                      </a:r>
                      <a:r>
                        <a:rPr b="0" lang="en-US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리드봉을 다른 구멍에 연결</a:t>
                      </a:r>
                      <a:r>
                        <a:rPr b="0" lang="en-US" sz="1500" spc="-1" strike="noStrike">
                          <a:solidFill>
                            <a:srgbClr val="0070c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측정치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PMingLiU"/>
                        </a:rPr>
                        <a:t>:   </a:t>
                      </a:r>
                      <a:r>
                        <a:rPr b="1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맑은 고딕"/>
                          <a:ea typeface="PMingLiU"/>
                        </a:rPr>
                        <a:t>    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PMingLiU"/>
                        </a:rPr>
                        <a:t>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1" name="Object 2"/>
          <p:cNvGraphicFramePr/>
          <p:nvPr/>
        </p:nvGraphicFramePr>
        <p:xfrm>
          <a:off x="5537160" y="2374920"/>
          <a:ext cx="264168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374920"/>
                    <a:ext cx="2641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원 접지 저항 측정 방법</a:t>
            </a: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57120" y="1071720"/>
          <a:ext cx="8501040" cy="3214440"/>
        </p:xfrm>
        <a:graphic>
          <a:graphicData uri="http://schemas.openxmlformats.org/drawingml/2006/table">
            <a:tbl>
              <a:tblPr/>
              <a:tblGrid>
                <a:gridCol w="6429600"/>
                <a:gridCol w="2071440"/>
              </a:tblGrid>
              <a:tr h="32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CAT5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저항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+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접지 툴 저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맑은 고딕"/>
                        </a:rPr>
                        <a:t>Z =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맑은 고딕"/>
                          <a:ea typeface="PMingLiU"/>
                        </a:rPr>
                        <a:t> ___ 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Frutiger LT 45 Light"/>
                          <a:ea typeface="微軟正黑體"/>
                        </a:rPr>
                        <a:t>Ω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맑은 고딕"/>
                          <a:ea typeface="PMingLiU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0070c0"/>
                          </a:solidFill>
                          <a:uFillTx/>
                          <a:latin typeface="맑은 고딕"/>
                          <a:ea typeface="PMingLiU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단선 저항 값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Frutiger LT 45 Light"/>
                          <a:ea typeface="微軟正黑體"/>
                        </a:rPr>
                        <a:t>S = Z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맑은 고딕"/>
                          <a:ea typeface="PMingLiU"/>
                        </a:rPr>
                        <a:t>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2"/>
          <p:cNvGraphicFramePr/>
          <p:nvPr/>
        </p:nvGraphicFramePr>
        <p:xfrm>
          <a:off x="571680" y="1428840"/>
          <a:ext cx="600048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428840"/>
                    <a:ext cx="60004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전원 접지 저항 측정 방법</a:t>
            </a:r>
            <a:r>
              <a:rPr b="1" lang="en-US" sz="2800" spc="-1" strike="noStrike">
                <a:solidFill>
                  <a:srgbClr val="0b4576"/>
                </a:solidFill>
                <a:latin typeface="맑은 고딕"/>
                <a:ea typeface="맑은 고딕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57120" y="1071720"/>
          <a:ext cx="8501040" cy="2928960"/>
        </p:xfrm>
        <a:graphic>
          <a:graphicData uri="http://schemas.openxmlformats.org/drawingml/2006/table">
            <a:tbl>
              <a:tblPr/>
              <a:tblGrid>
                <a:gridCol w="6429600"/>
                <a:gridCol w="2071440"/>
              </a:tblGrid>
              <a:tr h="292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단선 저항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접지저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Frutiger LT 45 Light"/>
                          <a:ea typeface="微軟正黑體"/>
                        </a:rPr>
                        <a:t>T = 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맑은 고딕"/>
                          <a:ea typeface="PMingLiU"/>
                        </a:rPr>
                        <a:t>___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Frutiger LT 45 Light"/>
                          <a:ea typeface="微軟正黑體"/>
                        </a:rPr>
                        <a:t> 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Frutiger LT 45 Light"/>
                          <a:ea typeface="微軟正黑體"/>
                        </a:rPr>
                        <a:t>접지 저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indent="-1522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Frutiger LT 45 Light"/>
                          <a:ea typeface="微軟正黑體"/>
                        </a:rPr>
                        <a:t>G =T –S = 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맑은 고딕"/>
                          <a:ea typeface="PMingLiU"/>
                        </a:rPr>
                        <a:t>___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Frutiger LT 45 Light"/>
                          <a:ea typeface="微軟正黑體"/>
                        </a:rPr>
                        <a:t> Ω</a:t>
                      </a:r>
                      <a:r>
                        <a:rPr b="1" lang="en-US" sz="1400" spc="-1" strike="noStrike" u="sng">
                          <a:solidFill>
                            <a:srgbClr val="0070c0"/>
                          </a:solidFill>
                          <a:uFillTx/>
                          <a:latin typeface="맑은 고딕"/>
                          <a:ea typeface="PMingLiU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2"/>
          <p:cNvGraphicFramePr/>
          <p:nvPr/>
        </p:nvGraphicFramePr>
        <p:xfrm>
          <a:off x="571680" y="1389240"/>
          <a:ext cx="6019560" cy="23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389240"/>
                    <a:ext cx="6019560" cy="23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5"/>
          <p:cNvSpPr/>
          <p:nvPr/>
        </p:nvSpPr>
        <p:spPr>
          <a:xfrm>
            <a:off x="357120" y="41313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Times New Roman"/>
              </a:rPr>
              <a:t>측정한 접지 저항 값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Times New Roman"/>
              </a:rPr>
              <a:t>G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Times New Roman"/>
              </a:rPr>
              <a:t>는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Times New Roman"/>
              </a:rPr>
              <a:t>5 Ω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Times New Roman"/>
              </a:rPr>
              <a:t>을 초과할 수 없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U자형 화살표 8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STP Cable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사용 목적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2514600" y="3179880"/>
            <a:ext cx="4648320" cy="11714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4"/>
          <p:cNvSpPr/>
          <p:nvPr/>
        </p:nvSpPr>
        <p:spPr>
          <a:xfrm>
            <a:off x="1357200" y="1071720"/>
            <a:ext cx="700092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 (</a:t>
            </a:r>
            <a:r>
              <a:rPr b="1" lang="en-US" sz="2400" spc="-1" strike="noStrike">
                <a:solidFill>
                  <a:srgbClr val="c0504d"/>
                </a:solidFill>
                <a:latin typeface="맑은 고딕"/>
                <a:ea typeface="맑은 고딕"/>
              </a:rPr>
              <a:t>Shielded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wisted-Pair)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과 같이 소음이 심하거나 고압전류가 흐르는 곳에 사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변의 전기장치나 자기장치 로부 터 데이터를 보호하기 위해 은박지와 구리로 만들어진 피복으로 보호되어  있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STP Cable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제작 방법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96360" y="1017360"/>
            <a:ext cx="849636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은 접지선을 포함하는데 아래 그림처럼 이 접지선을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J45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넥터에 납땜 하거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쉴딩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J-45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넥터의 안쪽 윗부분에 잘 접촉하도록 하십시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  <a:p>
            <a:pPr marL="160200" indent="-1602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외부의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ise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들이 내부의 선에 간섭하지 않고 딴 곳으로 흘러 보내기 위하여 접지 시키는 것입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3"/>
          <a:stretch/>
        </p:blipFill>
        <p:spPr>
          <a:xfrm>
            <a:off x="1285920" y="2786040"/>
            <a:ext cx="2357280" cy="1413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"/>
          <p:cNvPicPr/>
          <p:nvPr/>
        </p:nvPicPr>
        <p:blipFill>
          <a:blip r:embed="rId4"/>
          <a:stretch/>
        </p:blipFill>
        <p:spPr>
          <a:xfrm>
            <a:off x="5143680" y="2894040"/>
            <a:ext cx="2697120" cy="1338120"/>
          </a:xfrm>
          <a:prstGeom prst="rect">
            <a:avLst/>
          </a:prstGeom>
          <a:ln w="0">
            <a:noFill/>
          </a:ln>
        </p:spPr>
      </p:pic>
      <p:sp>
        <p:nvSpPr>
          <p:cNvPr id="485" name="U자형 화살표 5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STP Cable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제작 방법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1"/>
          <a:stretch/>
        </p:blipFill>
        <p:spPr>
          <a:xfrm>
            <a:off x="2357280" y="1285920"/>
            <a:ext cx="1724040" cy="3149640"/>
          </a:xfrm>
          <a:prstGeom prst="rect">
            <a:avLst/>
          </a:prstGeom>
          <a:ln w="0">
            <a:noFill/>
          </a:ln>
        </p:spPr>
      </p:pic>
      <p:sp>
        <p:nvSpPr>
          <p:cNvPr id="488" name="직사각형 6"/>
          <p:cNvSpPr/>
          <p:nvPr/>
        </p:nvSpPr>
        <p:spPr>
          <a:xfrm>
            <a:off x="2337120" y="8953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68 B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2"/>
          <a:stretch/>
        </p:blipFill>
        <p:spPr>
          <a:xfrm>
            <a:off x="5500800" y="1446120"/>
            <a:ext cx="121428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316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Issue</a:t>
            </a:r>
            <a:endParaRPr b="0" lang="en-US" sz="40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STP Cable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제작 방법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91" name="직사각형 9"/>
          <p:cNvSpPr/>
          <p:nvPr/>
        </p:nvSpPr>
        <p:spPr>
          <a:xfrm>
            <a:off x="571680" y="857160"/>
            <a:ext cx="80010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 (Shield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Twisted-Pair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케이블을 꼬은 이유는 서로 꼬여 있어서 외부의 간섭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ise 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보다 안전하게 하기 위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더  멀리  더 빠르게  데이터의  손실 없이  보내기  위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4857480" cy="20588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214200" y="2940120"/>
            <a:ext cx="3463920" cy="1668240"/>
          </a:xfrm>
          <a:prstGeom prst="rect">
            <a:avLst/>
          </a:prstGeom>
          <a:ln w="0">
            <a:noFill/>
          </a:ln>
        </p:spPr>
      </p:pic>
      <p:sp>
        <p:nvSpPr>
          <p:cNvPr id="494" name="U자형 화살표 7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접지의  중요성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14200" y="1177920"/>
            <a:ext cx="8715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낙뢰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전압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류역류 등으로부터 인명 및 시스템보호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자기의 간섭 감소 및 정전기로부터 시스템보호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낙뢰 및 전원시설에서 발생되는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rge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한 방전로 제공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랙 내에서의 고주파 전위의 제거 또는 감소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접지 불량에 의한 문제점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43080" y="926280"/>
            <a:ext cx="8229600" cy="32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품의 잦은 고장 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" action="ppaction://hlinksldjump"/>
              </a:rPr>
              <a:t>제품상 소진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2" action="ppaction://hlinksldjump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3" action="ppaction://hlinksldjump"/>
              </a:rPr>
              <a:t>불에 탄 흔적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4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5" action="ppaction://hlinksldjump"/>
              </a:rPr>
              <a:t>제품 설비상 누전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  <a:p>
            <a:pPr marL="142920" indent="152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호 간섭에 의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결 무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깜박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 LT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Check List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571680" y="2828880"/>
            <a:ext cx="1385640" cy="438120"/>
          </a:xfrm>
          <a:prstGeom prst="rect">
            <a:avLst/>
          </a:prstGeom>
          <a:solidFill>
            <a:srgbClr val="dbeef4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0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" action="ppaction://hlinksldjump"/>
              </a:rPr>
              <a:t>전원 접지 전압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0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2" action="ppaction://hlinksldjump"/>
              </a:rPr>
              <a:t>및 저항 측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7377120" y="1400040"/>
            <a:ext cx="1485720" cy="418320"/>
          </a:xfrm>
          <a:prstGeom prst="rect">
            <a:avLst/>
          </a:prstGeom>
          <a:solidFill>
            <a:srgbClr val="dbeef4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(CAT’5 </a:t>
            </a:r>
            <a:r>
              <a:rPr b="0" lang="ko-KR" sz="1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기종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T/R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연결 구간 전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순서도: 수행의 시작/종료 18"/>
          <p:cNvSpPr/>
          <p:nvPr/>
        </p:nvSpPr>
        <p:spPr>
          <a:xfrm>
            <a:off x="5429160" y="4695840"/>
            <a:ext cx="971640" cy="36036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처리 완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직선 화살표 연결선 25"/>
          <p:cNvCxnSpPr/>
          <p:nvPr/>
        </p:nvCxnSpPr>
        <p:spPr>
          <a:xfrm flipH="1">
            <a:off x="1283400" y="1128240"/>
            <a:ext cx="2520" cy="253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56" name="직선 화살표 연결선 26"/>
          <p:cNvCxnSpPr/>
          <p:nvPr/>
        </p:nvCxnSpPr>
        <p:spPr>
          <a:xfrm flipH="1">
            <a:off x="1283400" y="1803240"/>
            <a:ext cx="2520" cy="2534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57" name="직선 화살표 연결선 27"/>
          <p:cNvCxnSpPr/>
          <p:nvPr/>
        </p:nvCxnSpPr>
        <p:spPr>
          <a:xfrm flipH="1">
            <a:off x="1261800" y="2499840"/>
            <a:ext cx="2160" cy="253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58" name="꺾인 연결선 30"/>
          <p:cNvCxnSpPr/>
          <p:nvPr/>
        </p:nvCxnSpPr>
        <p:spPr>
          <a:xfrm flipH="1" flipV="1" rot="10800000">
            <a:off x="456840" y="2328480"/>
            <a:ext cx="4933080" cy="2556720"/>
          </a:xfrm>
          <a:prstGeom prst="bentConnector3">
            <a:avLst>
              <a:gd name="adj1" fmla="val -5356"/>
            </a:avLst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59" name="직선 화살표 연결선 34"/>
          <p:cNvCxnSpPr/>
          <p:nvPr/>
        </p:nvCxnSpPr>
        <p:spPr>
          <a:xfrm flipH="1">
            <a:off x="1266480" y="3908160"/>
            <a:ext cx="2160" cy="253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60" name="TextBox 35"/>
          <p:cNvSpPr/>
          <p:nvPr/>
        </p:nvSpPr>
        <p:spPr>
          <a:xfrm>
            <a:off x="2000160" y="138924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6"/>
          <p:cNvSpPr/>
          <p:nvPr/>
        </p:nvSpPr>
        <p:spPr>
          <a:xfrm>
            <a:off x="971640" y="17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1"/>
          <p:cNvSpPr/>
          <p:nvPr/>
        </p:nvSpPr>
        <p:spPr>
          <a:xfrm>
            <a:off x="223920" y="21225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3"/>
          <p:cNvSpPr/>
          <p:nvPr/>
        </p:nvSpPr>
        <p:spPr>
          <a:xfrm>
            <a:off x="955800" y="24573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>
            <a:off x="1068480" y="370188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950760" y="3857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>
            <a:off x="2000160" y="42321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직선 화살표 연결선 48"/>
          <p:cNvCxnSpPr/>
          <p:nvPr/>
        </p:nvCxnSpPr>
        <p:spPr>
          <a:xfrm flipH="1">
            <a:off x="1265040" y="4579560"/>
            <a:ext cx="2160" cy="253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68" name="직선 연결선 57"/>
          <p:cNvSpPr/>
          <p:nvPr/>
        </p:nvSpPr>
        <p:spPr>
          <a:xfrm>
            <a:off x="2109960" y="1612800"/>
            <a:ext cx="17928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선 연결선 59"/>
          <p:cNvSpPr/>
          <p:nvPr/>
        </p:nvSpPr>
        <p:spPr>
          <a:xfrm flipH="1">
            <a:off x="2286000" y="1614600"/>
            <a:ext cx="1440" cy="971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7"/>
          <p:cNvSpPr/>
          <p:nvPr/>
        </p:nvSpPr>
        <p:spPr>
          <a:xfrm>
            <a:off x="955800" y="45529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8"/>
          <p:cNvSpPr/>
          <p:nvPr/>
        </p:nvSpPr>
        <p:spPr>
          <a:xfrm>
            <a:off x="6729480" y="24289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9"/>
          <p:cNvSpPr/>
          <p:nvPr/>
        </p:nvSpPr>
        <p:spPr>
          <a:xfrm>
            <a:off x="4357800" y="1428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0"/>
          <p:cNvSpPr/>
          <p:nvPr/>
        </p:nvSpPr>
        <p:spPr>
          <a:xfrm>
            <a:off x="3371760" y="180324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71"/>
          <p:cNvSpPr/>
          <p:nvPr/>
        </p:nvSpPr>
        <p:spPr>
          <a:xfrm>
            <a:off x="5600880" y="27860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2"/>
          <p:cNvSpPr/>
          <p:nvPr/>
        </p:nvSpPr>
        <p:spPr>
          <a:xfrm>
            <a:off x="8118360" y="348948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3"/>
          <p:cNvSpPr/>
          <p:nvPr/>
        </p:nvSpPr>
        <p:spPr>
          <a:xfrm>
            <a:off x="3343320" y="350028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4"/>
          <p:cNvSpPr/>
          <p:nvPr/>
        </p:nvSpPr>
        <p:spPr>
          <a:xfrm>
            <a:off x="4481640" y="31496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꺾인 연결선 78"/>
          <p:cNvCxnSpPr/>
          <p:nvPr/>
        </p:nvCxnSpPr>
        <p:spPr>
          <a:xfrm flipV="1">
            <a:off x="2064960" y="1623600"/>
            <a:ext cx="793080" cy="2772720"/>
          </a:xfrm>
          <a:prstGeom prst="bentConnector3">
            <a:avLst>
              <a:gd name="adj1" fmla="val 50000"/>
            </a:avLst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79" name="직선 화살표 연결선 80"/>
          <p:cNvCxnSpPr/>
          <p:nvPr/>
        </p:nvCxnSpPr>
        <p:spPr>
          <a:xfrm>
            <a:off x="2052720" y="3720600"/>
            <a:ext cx="397440" cy="252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0" name="직선 화살표 연결선 82"/>
          <p:cNvCxnSpPr/>
          <p:nvPr/>
        </p:nvCxnSpPr>
        <p:spPr>
          <a:xfrm flipH="1">
            <a:off x="8117640" y="3504960"/>
            <a:ext cx="2520" cy="8276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1" name="직선 화살표 연결선 83"/>
          <p:cNvCxnSpPr/>
          <p:nvPr/>
        </p:nvCxnSpPr>
        <p:spPr>
          <a:xfrm>
            <a:off x="4471560" y="1609200"/>
            <a:ext cx="577080" cy="252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2" name="직선 화살표 연결선 84"/>
          <p:cNvCxnSpPr/>
          <p:nvPr/>
        </p:nvCxnSpPr>
        <p:spPr>
          <a:xfrm flipH="1">
            <a:off x="3676320" y="1795320"/>
            <a:ext cx="2160" cy="133272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3" name="직선 화살표 연결선 85"/>
          <p:cNvCxnSpPr/>
          <p:nvPr/>
        </p:nvCxnSpPr>
        <p:spPr>
          <a:xfrm flipH="1">
            <a:off x="3655800" y="3517920"/>
            <a:ext cx="2160" cy="129600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4" name="직선 화살표 연결선 92"/>
          <p:cNvCxnSpPr/>
          <p:nvPr/>
        </p:nvCxnSpPr>
        <p:spPr>
          <a:xfrm flipV="1">
            <a:off x="4785120" y="1637640"/>
            <a:ext cx="2520" cy="1693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85" name="직선 연결선 93"/>
          <p:cNvSpPr/>
          <p:nvPr/>
        </p:nvSpPr>
        <p:spPr>
          <a:xfrm>
            <a:off x="4457880" y="3330720"/>
            <a:ext cx="32364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순서도: 판단 52"/>
          <p:cNvSpPr/>
          <p:nvPr/>
        </p:nvSpPr>
        <p:spPr>
          <a:xfrm>
            <a:off x="484200" y="142884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지 콘센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순서도: 판단 53"/>
          <p:cNvSpPr/>
          <p:nvPr/>
        </p:nvSpPr>
        <p:spPr>
          <a:xfrm>
            <a:off x="461880" y="214308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콘센트 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순서도: 판단 50"/>
          <p:cNvSpPr/>
          <p:nvPr/>
        </p:nvSpPr>
        <p:spPr>
          <a:xfrm>
            <a:off x="449280" y="353376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압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 1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저항 ≤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1" lang="el-G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순서도: 판단 54"/>
          <p:cNvSpPr/>
          <p:nvPr/>
        </p:nvSpPr>
        <p:spPr>
          <a:xfrm>
            <a:off x="461880" y="421488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원 접지 개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순서도: 판단 56"/>
          <p:cNvSpPr/>
          <p:nvPr/>
        </p:nvSpPr>
        <p:spPr>
          <a:xfrm>
            <a:off x="2881440" y="142884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TP Cable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순서도: 판단 58"/>
          <p:cNvSpPr/>
          <p:nvPr/>
        </p:nvSpPr>
        <p:spPr>
          <a:xfrm>
            <a:off x="2849400" y="314316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ble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순서도: 판단 62"/>
          <p:cNvSpPr/>
          <p:nvPr/>
        </p:nvSpPr>
        <p:spPr>
          <a:xfrm>
            <a:off x="5094360" y="2428920"/>
            <a:ext cx="169236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P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순서도: 판단 63"/>
          <p:cNvSpPr/>
          <p:nvPr/>
        </p:nvSpPr>
        <p:spPr>
          <a:xfrm>
            <a:off x="5067360" y="1420920"/>
            <a:ext cx="1727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자기 발생 장치 근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순서도: 수행의 시작/종료 64"/>
          <p:cNvSpPr/>
          <p:nvPr/>
        </p:nvSpPr>
        <p:spPr>
          <a:xfrm>
            <a:off x="7631280" y="4373640"/>
            <a:ext cx="1000080" cy="35856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순서도: 판단 65"/>
          <p:cNvSpPr/>
          <p:nvPr/>
        </p:nvSpPr>
        <p:spPr>
          <a:xfrm>
            <a:off x="7286760" y="3143160"/>
            <a:ext cx="1619280" cy="357120"/>
          </a:xfrm>
          <a:prstGeom prst="flowChartDecision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상 일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순서도: 수행의 시작/종료 67"/>
          <p:cNvSpPr/>
          <p:nvPr/>
        </p:nvSpPr>
        <p:spPr>
          <a:xfrm>
            <a:off x="352440" y="762120"/>
            <a:ext cx="1882800" cy="360360"/>
          </a:xfrm>
          <a:prstGeom prst="flowChartTerminator">
            <a:avLst/>
          </a:prstGeom>
          <a:solidFill>
            <a:srgbClr val="d996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깜박임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amp;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결무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직선 화살표 연결선 68"/>
          <p:cNvCxnSpPr/>
          <p:nvPr/>
        </p:nvCxnSpPr>
        <p:spPr>
          <a:xfrm flipH="1">
            <a:off x="1259640" y="3236760"/>
            <a:ext cx="2520" cy="2534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98" name="직선 화살표 연결선 73"/>
          <p:cNvCxnSpPr/>
          <p:nvPr/>
        </p:nvCxnSpPr>
        <p:spPr>
          <a:xfrm flipH="1" flipV="1">
            <a:off x="1302480" y="2592000"/>
            <a:ext cx="972360" cy="216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99" name="직선 화살표 연결선 75"/>
          <p:cNvCxnSpPr/>
          <p:nvPr/>
        </p:nvCxnSpPr>
        <p:spPr>
          <a:xfrm flipH="1">
            <a:off x="5930640" y="1809360"/>
            <a:ext cx="2160" cy="577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00" name="직선 화살표 연결선 76"/>
          <p:cNvCxnSpPr/>
          <p:nvPr/>
        </p:nvCxnSpPr>
        <p:spPr>
          <a:xfrm flipH="1">
            <a:off x="5938560" y="2785680"/>
            <a:ext cx="2160" cy="180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01" name="TextBox 69"/>
          <p:cNvSpPr/>
          <p:nvPr/>
        </p:nvSpPr>
        <p:spPr>
          <a:xfrm>
            <a:off x="6667560" y="143028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직선 화살표 연결선 79"/>
          <p:cNvCxnSpPr/>
          <p:nvPr/>
        </p:nvCxnSpPr>
        <p:spPr>
          <a:xfrm>
            <a:off x="6781320" y="1603440"/>
            <a:ext cx="577080" cy="216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03" name="직선 화살표 연결선 86"/>
          <p:cNvCxnSpPr/>
          <p:nvPr/>
        </p:nvCxnSpPr>
        <p:spPr>
          <a:xfrm flipH="1">
            <a:off x="8128800" y="1800360"/>
            <a:ext cx="2520" cy="133416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04" name="직선 화살표 연결선 88"/>
          <p:cNvCxnSpPr/>
          <p:nvPr/>
        </p:nvCxnSpPr>
        <p:spPr>
          <a:xfrm flipH="1">
            <a:off x="6000480" y="3322800"/>
            <a:ext cx="1296000" cy="86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05" name="직선 화살표 연결선 91"/>
          <p:cNvCxnSpPr/>
          <p:nvPr/>
        </p:nvCxnSpPr>
        <p:spPr>
          <a:xfrm flipV="1">
            <a:off x="7140960" y="1653480"/>
            <a:ext cx="2520" cy="97236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06" name="직선 연결선 94"/>
          <p:cNvSpPr/>
          <p:nvPr/>
        </p:nvSpPr>
        <p:spPr>
          <a:xfrm>
            <a:off x="6781680" y="2624040"/>
            <a:ext cx="36036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9"/>
          <p:cNvSpPr/>
          <p:nvPr/>
        </p:nvSpPr>
        <p:spPr>
          <a:xfrm>
            <a:off x="7010280" y="31431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제품상 소진 예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09" name="그림 3" descr="SANY0125.JPG"/>
          <p:cNvPicPr/>
          <p:nvPr/>
        </p:nvPicPr>
        <p:blipFill>
          <a:blip r:embed="rId1"/>
          <a:stretch/>
        </p:blipFill>
        <p:spPr>
          <a:xfrm>
            <a:off x="1214280" y="928800"/>
            <a:ext cx="6500880" cy="3857400"/>
          </a:xfrm>
          <a:prstGeom prst="rect">
            <a:avLst/>
          </a:prstGeom>
          <a:ln w="0">
            <a:noFill/>
          </a:ln>
        </p:spPr>
      </p:pic>
      <p:sp>
        <p:nvSpPr>
          <p:cNvPr id="410" name="U자형 화살표 3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제품 설비상 누전에 의한</a:t>
            </a: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감전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214280" y="911160"/>
            <a:ext cx="6858000" cy="3849840"/>
          </a:xfrm>
          <a:prstGeom prst="rect">
            <a:avLst/>
          </a:prstGeom>
          <a:ln w="0">
            <a:noFill/>
          </a:ln>
        </p:spPr>
      </p:pic>
      <p:sp>
        <p:nvSpPr>
          <p:cNvPr id="413" name="U자형 화살표 3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043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자기</a:t>
            </a: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유도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pic>
        <p:nvPicPr>
          <p:cNvPr id="415" name="Picture 5" descr="변압기 기본원리"/>
          <p:cNvPicPr/>
          <p:nvPr/>
        </p:nvPicPr>
        <p:blipFill>
          <a:blip r:embed="rId1"/>
          <a:stretch/>
        </p:blipFill>
        <p:spPr>
          <a:xfrm>
            <a:off x="1528920" y="1071720"/>
            <a:ext cx="6067440" cy="3381120"/>
          </a:xfrm>
          <a:prstGeom prst="rect">
            <a:avLst/>
          </a:prstGeom>
          <a:ln w="0">
            <a:noFill/>
          </a:ln>
        </p:spPr>
      </p:pic>
      <p:sp>
        <p:nvSpPr>
          <p:cNvPr id="416" name="U자형 화살표 4"/>
          <p:cNvSpPr/>
          <p:nvPr/>
        </p:nvSpPr>
        <p:spPr>
          <a:xfrm rot="10800000">
            <a:off x="8572320" y="4713120"/>
            <a:ext cx="252360" cy="21600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8560" y="150480"/>
            <a:ext cx="5614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UPS </a:t>
            </a: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기와 일반 전기의 위상 차</a:t>
            </a:r>
            <a:endParaRPr b="0" lang="en-US" sz="2800" spc="-1" strike="noStrike">
              <a:solidFill>
                <a:srgbClr val="000000"/>
              </a:solidFill>
              <a:latin typeface="Frutiger LT 45 Light"/>
            </a:endParaRPr>
          </a:p>
        </p:txBody>
      </p:sp>
      <p:sp>
        <p:nvSpPr>
          <p:cNvPr id="418" name="직사각형 4"/>
          <p:cNvSpPr/>
          <p:nvPr/>
        </p:nvSpPr>
        <p:spPr>
          <a:xfrm>
            <a:off x="4929120" y="192888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파를 입력하였을 때 코일에 걸리는 전압은 원래 신호보다 조금 느리게 위상 차가 생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노란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1) :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입력전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파란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2) :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코일에 걸린 전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3935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20:42Z</dcterms:created>
  <dc:creator>Mac</dc:creator>
  <dc:description/>
  <dc:language>en-US</dc:language>
  <cp:lastModifiedBy>WillyYun 尹庸相</cp:lastModifiedBy>
  <dcterms:modified xsi:type="dcterms:W3CDTF">2019-03-13T03:29:37Z</dcterms:modified>
  <cp:revision>379</cp:revision>
  <dc:subject/>
  <dc:title>Slide 1</dc:title>
</cp:coreProperties>
</file>